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8F7-D62A-46C4-9BA5-BB2FC1FD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76F-0C2F-408E-A3BC-DFC44B58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7883-C074-4CF4-A7E6-D5B5C3AE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3688-97E0-47E6-8E33-8E86A696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A0966-32F3-4B5F-84B4-AF3391D8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503EF-0DC6-4ED4-8BEB-89C348FB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2F6C4-1062-4B71-BA62-0939E96A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4655F-DAFD-4E36-807E-A1FEECEF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7B602-CC40-4D9A-AE6C-674251DF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5FF28-6065-4B1C-989B-BB7C4619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32D2E-C83D-46D9-9131-38FDA277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ED7-BF9D-4C34-A51C-3622A103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09D8C-B507-443A-9F9A-FEC82959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4C03A-D64B-4812-9277-B21DFD8A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309BB-FFCC-4708-9BF6-FAAE6012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AC969-6DD2-4CFB-AE47-C70C2FF3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1CB0D-5272-42A9-8D91-CD9D3CB7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EB7E6-55C6-4F06-991F-83DDA554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CAE47-5097-4405-B9E3-E7437662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EC17D-0F5A-4301-812C-F7E00A88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6E317-5424-40AA-A959-16027163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3E084-E315-4B40-8B99-3E781D62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B8D3-DADA-4199-A537-676D1267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CF5D2-00CB-40EE-A3EA-190DC0A6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4649F-BC5A-482D-933B-EA240FBE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E6994-8B44-4179-8A2D-695D4049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9478C-FBEF-4D3A-BF0E-E2EE797C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138A4-5976-4075-94A1-9B8E14AC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6A463-46BF-443E-A21C-BCA44820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FD479-3B54-42D9-8A56-401B30A9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ADC412-4415-4AA6-A8B1-A4455E20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F58017-C099-40D5-AAD0-C8C910CC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580BA8-BDD6-4975-8D43-814A64D5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526A-1B00-4E0F-A274-83EBCB3C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5087A0-EA3B-4634-80EC-CF252D8E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A116AF-EA58-4021-8E91-33FC4AC5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E9A2D4-9789-4550-AE74-DF286BC2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DD47EA-7D25-4F6A-A866-C48C59E1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E0B5BF-8037-4F84-9F26-E9C6C05B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29FE74-2C3B-40DD-A3B9-15579438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BCCA9E-3D70-4358-8A70-E0681ECA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669D3D-5B6C-4E9C-802E-2194112C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56E383-97E3-4069-97A7-6F6DADF8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43C-1040-4150-AB2E-178A2293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3D4-076E-49E8-ADDE-CEEB6921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D3D-8C8D-4AE3-B5DD-66B6F2E2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DB4C-B24A-4CA8-BCCC-F3288FB8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6F7-76A6-4CF4-ADF4-F40DB6A0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2BED-02EB-4D7D-BD19-5D9B5F642A3F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7899-EA5F-47B9-932F-DFC2E8E8EDC2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3C76-6EE9-4104-8658-32FAFB0F7570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DB8A-42E3-4B9B-B64C-A4CC8F370E89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onricardo2006@hotmail.co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440"/>
            <a:ext cx="830592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9c85c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r. Luis Ricardo Villalobos Zamora</a:t>
            </a:r>
            <a:br>
              <a:rPr sz="2400"/>
            </a:br>
            <a:r>
              <a:rPr b="0" lang="es-ES" sz="2400" spc="-1" strike="noStrike" u="sng">
                <a:solidFill>
                  <a:srgbClr val="8e58b6"/>
                </a:solidFill>
                <a:uFillTx/>
                <a:latin typeface="Arial"/>
                <a:ea typeface="Arial"/>
                <a:hlinkClick r:id="rId1"/>
              </a:rPr>
              <a:t>donricardo2006@hotmail.com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el (+506 )8837 5773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1 Título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282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1 Título" descr=""/>
          <p:cNvPicPr/>
          <p:nvPr/>
        </p:nvPicPr>
        <p:blipFill>
          <a:blip r:embed="rId1"/>
          <a:stretch/>
        </p:blipFill>
        <p:spPr>
          <a:xfrm>
            <a:off x="328680" y="128520"/>
            <a:ext cx="8381880" cy="1266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857160" y="149976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ff"/>
                </a:solidFill>
                <a:latin typeface="Constantia"/>
              </a:rPr>
              <a:t>¿QUÉ CONOCER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1. La justificación  de la carrera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1.1 ¿En qué consiste la carrera?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1.2 ¿Para qué sirve en nuestra sociedad ?    (Referentes universales y referentes nacionales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2.</a:t>
            </a: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Las tendencias actuales de  la disciplin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3.Otros diseños similares extranjeros y nacional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4. Las demandas sociales  (contexto mundial y nacional 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5. Aspectos  conceptuales de la disciplin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285920" y="0"/>
          <a:ext cx="6095880" cy="62182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PEC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METO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TECNICA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FUENT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9ec2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¿Para qué sirve en nuestra sociedad ?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ndencias actuales de  la discipl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tros diseños similares (extranjeros y nacionales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s demandas social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undiales y nacionales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pectos  conceptuales de la discipl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857160" y="142920"/>
          <a:ext cx="7500960" cy="658332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  <a:gridCol w="1500120"/>
                <a:gridCol w="15001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PEC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METOD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TECNIC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STRU-MEN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FUENT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9ec2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¿Para qué sirve en nuestra sociedad ?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recta 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ndencias actuales de  la discipl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recta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lect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trevista estructura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alist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tros diseños similares (extranjeros y nacionales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recta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lect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trevista estructura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alist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s demandas social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undiales y nacionale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rec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lect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trevista estructura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alist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pectos  conceptuales de la discipl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étodos   de  los enfoques 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ntitativ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lita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x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écnicas  de  los enfoques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ntitativ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lita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x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strumentos   de  los enfoques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ntitativ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lita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x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1 Título" descr=""/>
          <p:cNvPicPr/>
          <p:nvPr/>
        </p:nvPicPr>
        <p:blipFill>
          <a:blip r:embed="rId1"/>
          <a:stretch/>
        </p:blipFill>
        <p:spPr>
          <a:xfrm>
            <a:off x="378000" y="146160"/>
            <a:ext cx="8351640" cy="1231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PASO 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Hagamos una carpeta  en  wor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Póngale título: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DIAGNÓSTICO EXTERN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DENTRO DE LA CARPETA ANTERIOR ABRA   </a:t>
            </a:r>
            <a:r>
              <a:rPr b="1" lang="es-ES" sz="2600" spc="-1" strike="noStrike">
                <a:solidFill>
                  <a:srgbClr val="ff0000"/>
                </a:solidFill>
                <a:latin typeface="Constantia"/>
              </a:rPr>
              <a:t>CINCO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CARPETAS  Y PÓNGALES LOS SIGUIENTES NOMBR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CR" sz="2800" spc="-1" strike="noStrike">
                <a:solidFill>
                  <a:srgbClr val="ffffff"/>
                </a:solidFill>
                <a:latin typeface="Constantia"/>
              </a:rPr>
              <a:t>1. Justificación de la carrera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nstantia"/>
              </a:rPr>
              <a:t>2.</a:t>
            </a:r>
            <a:r>
              <a:rPr b="1" lang="es-CR" sz="2800" spc="-1" strike="noStrike">
                <a:solidFill>
                  <a:srgbClr val="ffffff"/>
                </a:solidFill>
                <a:latin typeface="Constantia"/>
              </a:rPr>
              <a:t> Tendencias actuales de  la disciplina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Constantia"/>
              </a:rPr>
              <a:t>3. Diseños similares extranjeros y nacional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Constantia"/>
              </a:rPr>
              <a:t>4. Demandas sociales  (contexto mundial y nacional )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Constantia"/>
              </a:rPr>
              <a:t>5. Aspectos  conceptuales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0004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INDICACIÓN  IMPORTANTE  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Elabore una ficha por  aspecto particular investigado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a. Inserte una tabla  con </a:t>
            </a:r>
            <a:r>
              <a:rPr b="1" lang="es-ES" sz="2400" spc="-1" strike="noStrike">
                <a:solidFill>
                  <a:srgbClr val="ff0000"/>
                </a:solidFill>
                <a:latin typeface="Constantia"/>
              </a:rPr>
              <a:t>dos</a:t>
            </a: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 columnas  y </a:t>
            </a:r>
            <a:r>
              <a:rPr b="1" lang="es-ES" sz="2400" spc="-1" strike="noStrike">
                <a:solidFill>
                  <a:srgbClr val="ff0000"/>
                </a:solidFill>
                <a:latin typeface="Constantia"/>
              </a:rPr>
              <a:t>cinco</a:t>
            </a: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  líneas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b. Rotúlelas de la siguiente manera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2 Título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4614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1500120" y="3357720"/>
          <a:ext cx="6096240" cy="32274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UBDIMENSIÓN  </a:t>
                      </a: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85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UNDAMENTACIÓN DE LA CARR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85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UTOR(E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9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ferencias bibliográfi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  nombre de la publicación editorial,  Nº de edición, ciudad , país, añ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ita (textual o contextu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9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rección electrónic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Haga el taller siguiendo las indicaciones dadas por el facilitado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7T13:25:50Z</dcterms:created>
  <dc:creator>Luis</dc:creator>
  <dc:description/>
  <dc:language>en-US</dc:language>
  <cp:lastModifiedBy>Luis</cp:lastModifiedBy>
  <dcterms:modified xsi:type="dcterms:W3CDTF">2018-03-18T16:40:22Z</dcterms:modified>
  <cp:revision>12</cp:revision>
  <dc:subject/>
  <dc:title>EL DIAGNÓSTICO EXTERNO</dc:title>
</cp:coreProperties>
</file>